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8.wmf" ContentType="image/x-wmf"/>
  <Override PartName="/ppt/media/image12.jpeg" ContentType="image/jpeg"/>
  <Override PartName="/ppt/media/image7.gif" ContentType="image/gif"/>
  <Override PartName="/ppt/media/image10.jpeg" ContentType="image/jpeg"/>
  <Override PartName="/ppt/media/image9.wmf" ContentType="image/x-wmf"/>
  <Override PartName="/ppt/media/image6.gif" ContentType="image/gif"/>
  <Override PartName="/ppt/media/image5.wmf" ContentType="image/x-wmf"/>
  <Override PartName="/ppt/media/image13.jpeg" ContentType="image/jpeg"/>
  <Override PartName="/ppt/media/image3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png" ContentType="image/png"/>
  <Override PartName="/ppt/media/image14.wmf" ContentType="image/x-wm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DA4-F7F5-49BC-A063-B3E3D1FB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059-0DA0-4F35-BD8E-5CA6C099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FB4-E4D3-4B0C-9232-466152BE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ACC-0A8E-4FB1-A1EB-F7BFA0E5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EE3-2509-4435-A38C-D0868822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B35-2AD8-40F1-B51B-F9854824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B50-3435-4728-A152-7C413DE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FAE-F0B1-4E88-9F86-67C8281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944-A851-435A-BDF9-9C2B9D64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4BA-933B-4BD6-AA55-3A1839E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A9E-8DB6-4A7E-B853-C170F969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2E1-7157-44BD-852B-BB0DBDF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E24-6772-49D4-99A3-3F204537679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6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Banner"/>
              </a:rPr>
              <a:t>Women on the Goldfiel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645000"/>
            <a:ext cx="41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MILY V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757800">
            <a:off x="394920" y="3573000"/>
            <a:ext cx="2592360" cy="239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641840"/>
            <a:ext cx="2664000" cy="221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149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mining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409840" cy="1596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32720" y="115920"/>
            <a:ext cx="2276280" cy="170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721240" cy="217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348000" y="148428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732720" y="4508640"/>
            <a:ext cx="1877760" cy="201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12000" y="39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ural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757800">
            <a:off x="3131640" y="1988640"/>
            <a:ext cx="2592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05264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men on the Australian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ife on the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ooks about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2388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42920" y="1159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052640"/>
            <a:ext cx="73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they 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was it like on the gold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ibli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22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26028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1159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1858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20640"/>
            <a:ext cx="885672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a long dress with a high neck, tight waist and a full 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a cotton petticoat and bloomers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striped stoc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hard wearing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a large bonnet to keep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when the miners worked for long hours their clothes got wor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some people wore boots some wore shoes but most of them couldn’t afford to buy shoes or boots so they had to go bare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3050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260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was their job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9079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of the women cooked, cleaned, washed the clothes and they also did the ir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some women sang and danced on the gold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were diggers and some were shopkee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stayed home with their children while their husbands were at the digg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women made bread, butter, jams, soaps and clothes for their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97560" y="189000"/>
            <a:ext cx="1846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7640" y="18900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did people eat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557360"/>
            <a:ext cx="72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amper,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ried meat, m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read, flour, water, eggs, 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hey mostly ate damper, bread &amp; flour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29718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1159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was it like on the gold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26828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765000"/>
            <a:ext cx="8424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people teased the chinese and the aboriginal because they we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white people teased and threatened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parents couldn’t afford to buy things for their for their children, only the rich people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children on the goldfields got sick because they  weren't wearing proper cl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2447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115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kind of things did they use to get to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836640"/>
            <a:ext cx="76327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mostly the poor people traveled by walking because they couldn’t afford to buy horses because they were very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the rich people could travel by horses and carri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some people came with donkeys and bullocks because they could carry lots of we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people from other countries</a:t>
            </a:r>
            <a:r>
              <a:rPr b="0" lang="en-US" sz="23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came by ships because there was no other way to tra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56000" y="4643280"/>
            <a:ext cx="2735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189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as it like to live at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7632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usually people used tents and huts covered by b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attresses that they used were stuffed with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iners sat on logs around the camp fire and sang songs because there was no computer or TV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chinese slept in tents but they slept faraway from the other cultures because there was a 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92360" y="4653000"/>
            <a:ext cx="1873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66ff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87280" y="33336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se are some pictures of gold &amp;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43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662200" cy="203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592360" cy="1947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lted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227640" y="4365720"/>
            <a:ext cx="2409840" cy="2260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6000" y="4005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ople at the gold 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348000" y="2133720"/>
            <a:ext cx="221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7:11:16Z</dcterms:created>
  <dc:creator>ME</dc:creator>
  <dc:description/>
  <dc:language>en-US</dc:language>
  <cp:lastModifiedBy>ME</cp:lastModifiedBy>
  <dcterms:modified xsi:type="dcterms:W3CDTF">2010-10-18T08:29:11Z</dcterms:modified>
  <cp:revision>15</cp:revision>
  <dc:subject/>
  <dc:title>Slide 1</dc:title>
</cp:coreProperties>
</file>